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49B-4096-4CD7-B322-52D008CD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0A0-2867-4291-9D8E-8C60A132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D396-9FDE-4C30-9AAC-CA83FDD1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ADAB-1DD3-47DD-9677-EFCFD6FF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2F6-FAC6-4A29-B69F-2CD5C0B0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A026-7E56-490F-AD12-39F2800B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692-C961-4BEC-B230-D6558B3B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786-8E57-4B00-85C6-29669509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101-6885-4A65-8E83-7AB41F0C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A26-1534-4FFA-AC8C-8E2A10ED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FFC-5403-42FA-BF92-A22E2CFB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6F1-FF91-4740-A286-AE564298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DBBB-13A1-4600-9590-FB4AADD43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114800" cy="11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بِسرّ قيامة  المسيح ربِنا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نستمدّ الغفر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نهتف مبارك مَن بصلبه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عـتـقـنا من الطغي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ه قدوس قدوس  قدوس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تعظم رحمـ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00360" y="0"/>
            <a:ext cx="5543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352680" cy="9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معظم تذكار   أمّه مريم        سيّدة  الأكو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مكرّم ذكر جميع القديسين وشعبه بني  الإيم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هللوي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9:33:28Z</dcterms:created>
  <dc:creator>SUZANNE.MD</dc:creator>
  <dc:description/>
  <dc:language>en-US</dc:language>
  <cp:lastModifiedBy>HANI SAFI</cp:lastModifiedBy>
  <dcterms:modified xsi:type="dcterms:W3CDTF">2003-04-16T13:53:06Z</dcterms:modified>
  <cp:revision>1</cp:revision>
  <dc:subject/>
  <dc:title>PowerPoint Presentation</dc:title>
</cp:coreProperties>
</file>